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6E2-E32F-4FDB-AD9D-60E0FFFA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36C0-06A1-436D-8077-71FE33F9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285-246A-4F03-8FFA-B399D70E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DD7-BCE8-4AC3-8E91-F132D722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A962-285E-46B0-B62D-5CB77333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8366-287F-449F-A03E-07B84479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D9B9-32D1-4A98-ADBF-D80584AD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E14D-6A9A-488A-9644-25E0213A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032C-2BC3-4236-8A1C-E88DCCEB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5184-3892-4CA4-9AA1-51378B42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5903-5336-4094-9241-26532F1A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D86-CAE0-4807-A409-E311B1B2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7A3C-DC7F-44FD-9F32-BF15A0F6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B6EB-97CE-4566-9F98-4406BA4E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937A-E2B5-40FA-8C27-E0A4B45B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2FFD-28AD-4239-8E65-9A70671D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F968-6624-4C7F-9818-71BCF866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90E-B581-4D45-A6F1-D16678D9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AEB-0514-48D9-B1E4-3D4B09B4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3AF-9FB1-4F3B-99F3-F427BBA8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2CB-0BC1-43AA-AA2F-F846507A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AE4-C432-44B7-B7EA-AEC39BC5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CF4-03F3-4D21-BA65-174306B7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791-D2B5-4796-A7FC-C427BBE0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5D1A-03E7-4097-88BC-0DEC40A3ED7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7F39-8E8C-4C4E-B983-45AB33DD67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404640"/>
            <a:ext cx="7848720" cy="81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ffffff"/>
                </a:solidFill>
                <a:uFillTx/>
                <a:latin typeface="Times New Roman"/>
              </a:rPr>
              <a:t>JARYAS O CANCIONES DE MUJERES DE TIPO TR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requerimiento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confidente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os vais, ¡oh señor!,                                “¿Qué haré yo, mam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ntes quiero besaros la boca roja,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mi amigo ya se va;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ermeja como la cúrcuma”.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yo le quiero quieto.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Si tanto no le amase!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señor Ibrahim,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“¡Mamá, qué amigo!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oh dulce nombre!,                                     bajo la guedejilla rubit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vente a mí de noche.                                  el cuello al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no quieres,                                              y la boca coloradita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Ireme a ti,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me a dond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 verte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o te amaré                                            “Decidme ¡oh gentes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no es con la condición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¿qué os parec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que unas mis ajorcas</a:t>
            </a: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                       ¡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or Dios! Como mi señor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on mis pendientes”.                                su medicina no me da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312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84200" y="13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3120" y="209520"/>
            <a:ext cx="82296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requerimiento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confidente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miguito, decídet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“¡Dime antes que te mat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ven a tomarme,                                        ¡Quién soltó tus zaragüell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ésame la boc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No fue el amigo nuevo, mad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priétame los pechos;                              fue el antiguo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junta ajorca y pendient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marido está ocupado”.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queja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Al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e improviso, besó mi boca,                       “Ven, hechice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e lo diré a mi madre”.                                   alba que está con tan bello fulg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uando viene pide amor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Por Dios!, me desahogué gritando,             “No dormiré, mamá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e ha roto mi pecho,                                      al rayar el alb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e ha herido mis labios                                  viene Abul_Qas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y me ha deshecho el collar!”                           con faz de aurora”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42920" y="836640"/>
            <a:ext cx="6778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aus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¿Qué haré o que será de mi amig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No te vayas de mí!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me cómo llorar esta aus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No tant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Ay de los ojos de la enamo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no estás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!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amigo se retr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¿Quién ocultó la lu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ara que se perd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y errase el camino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2:20:02Z</dcterms:created>
  <dc:creator> </dc:creator>
  <dc:description/>
  <dc:language>en-US</dc:language>
  <cp:lastModifiedBy> </cp:lastModifiedBy>
  <dcterms:modified xsi:type="dcterms:W3CDTF">2007-10-03T23:01:01Z</dcterms:modified>
  <cp:revision>4</cp:revision>
  <dc:subject/>
  <dc:title>Diapositiva 1</dc:title>
</cp:coreProperties>
</file>